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5.gif" ContentType="image/gif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behappy.wav" ContentType="audio/x-wav"/>
  <Override PartName="/ppt/media/image12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493-E42D-4687-B8CC-13BFA03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E7C-CB5C-4A0B-AF88-0B3EAD9E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D8A-1AD7-4711-8E49-C00E3BDB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6F3-3733-49CA-9870-3FE555FE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0D9-AEAB-4FC6-893C-85B889F6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DB5-0099-4839-A802-FD63C9F5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BBC-472A-4024-8899-90995E8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71F-70D6-41B0-A4B7-8EACC5C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0C8-D6B3-4E4A-9BE2-58C2165E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D28-5979-47FB-BAF4-56032CC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99B-FA10-4A22-83AC-ADA329D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51D-381B-4DC4-B23A-1A47C0C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591A-64B5-4B65-A79B-3142BD1E3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Bazooka"/>
              </a:rPr>
              <a:t>Combining Like Ter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Lydian BT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Lydian BT"/>
              </a:rPr>
              <a:t>Algebra Coun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ulder"/>
              </a:rPr>
              <a:t>The Adding So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74284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tun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k!  The Herald Angels 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hen in math we do 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e must always add like th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o add decimals, we must line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Corresponding place val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o add fractions, we’re in nee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Like denomina-ato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In Algebra, we need like term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hey stay the same after we ad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In Algebra, we need like term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hey stay the same after we 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ulder"/>
              </a:rPr>
              <a:t>The Multiplying So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42640" y="274284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tun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k!  The Herald Angels 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3352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hen we multiply two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hey don’t have to be ali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First we multiply the numbe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Next, of course, th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hen we write the final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Here’s the order of the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Number first, the letters nex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Recorded alphabeticall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Number first, the letters nex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Recorded alphabetica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1219320" y="685800"/>
          <a:ext cx="254628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2546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5"/>
          <p:cNvGraphicFramePr/>
          <p:nvPr/>
        </p:nvGraphicFramePr>
        <p:xfrm>
          <a:off x="3886200" y="762120"/>
          <a:ext cx="165564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762120"/>
                    <a:ext cx="16556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1219320" y="1905120"/>
          <a:ext cx="314172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905120"/>
                    <a:ext cx="3141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7"/>
          <p:cNvGraphicFramePr/>
          <p:nvPr/>
        </p:nvGraphicFramePr>
        <p:xfrm>
          <a:off x="4495680" y="1981080"/>
          <a:ext cx="2079720" cy="67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981080"/>
                    <a:ext cx="20797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"/>
          <p:cNvGraphicFramePr/>
          <p:nvPr/>
        </p:nvGraphicFramePr>
        <p:xfrm>
          <a:off x="1219320" y="3200400"/>
          <a:ext cx="38224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3200400"/>
                    <a:ext cx="38224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9"/>
          <p:cNvGraphicFramePr/>
          <p:nvPr/>
        </p:nvGraphicFramePr>
        <p:xfrm>
          <a:off x="5105520" y="3276720"/>
          <a:ext cx="1697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05520" y="3276720"/>
                    <a:ext cx="169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1219320" y="4495680"/>
          <a:ext cx="3057480" cy="84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4495680"/>
                    <a:ext cx="30574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4419720" y="4495680"/>
          <a:ext cx="2122200" cy="80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4495680"/>
                    <a:ext cx="2122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2"/>
          <p:cNvGraphicFramePr/>
          <p:nvPr/>
        </p:nvGraphicFramePr>
        <p:xfrm>
          <a:off x="1219320" y="5715000"/>
          <a:ext cx="3228840" cy="84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5715000"/>
                    <a:ext cx="32288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3"/>
          <p:cNvGraphicFramePr/>
          <p:nvPr/>
        </p:nvGraphicFramePr>
        <p:xfrm>
          <a:off x="4495680" y="5715000"/>
          <a:ext cx="1400400" cy="80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95680" y="5715000"/>
                    <a:ext cx="1400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4"/>
          <p:cNvSpPr/>
          <p:nvPr/>
        </p:nvSpPr>
        <p:spPr>
          <a:xfrm>
            <a:off x="438840" y="414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in 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947880" y="1600200"/>
          <a:ext cx="301608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600200"/>
                    <a:ext cx="30160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4038480" y="1600200"/>
          <a:ext cx="195264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600200"/>
                    <a:ext cx="1952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1011240" y="2819520"/>
          <a:ext cx="344016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1240" y="2819520"/>
                    <a:ext cx="3440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5"/>
          <p:cNvGraphicFramePr/>
          <p:nvPr/>
        </p:nvGraphicFramePr>
        <p:xfrm>
          <a:off x="4495680" y="2819520"/>
          <a:ext cx="241956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2819520"/>
                    <a:ext cx="24195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6"/>
          <p:cNvGraphicFramePr/>
          <p:nvPr/>
        </p:nvGraphicFramePr>
        <p:xfrm>
          <a:off x="990720" y="4114800"/>
          <a:ext cx="386532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4114800"/>
                    <a:ext cx="38653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7"/>
          <p:cNvGraphicFramePr/>
          <p:nvPr/>
        </p:nvGraphicFramePr>
        <p:xfrm>
          <a:off x="4876920" y="4114800"/>
          <a:ext cx="1739880" cy="80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114800"/>
                    <a:ext cx="17398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3"/>
          <p:cNvSpPr/>
          <p:nvPr/>
        </p:nvSpPr>
        <p:spPr>
          <a:xfrm>
            <a:off x="1048320" y="4222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in 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73160" y="228600"/>
          <a:ext cx="394812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8600"/>
                    <a:ext cx="39481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"/>
          <p:cNvGraphicFramePr/>
          <p:nvPr/>
        </p:nvGraphicFramePr>
        <p:xfrm>
          <a:off x="4114800" y="304920"/>
          <a:ext cx="42879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04920"/>
                    <a:ext cx="4287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"/>
          <p:cNvGraphicFramePr/>
          <p:nvPr/>
        </p:nvGraphicFramePr>
        <p:xfrm>
          <a:off x="101520" y="1523880"/>
          <a:ext cx="471348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520" y="1523880"/>
                    <a:ext cx="47134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1"/>
          <p:cNvGraphicFramePr/>
          <p:nvPr/>
        </p:nvGraphicFramePr>
        <p:xfrm>
          <a:off x="4114800" y="2286000"/>
          <a:ext cx="479592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286000"/>
                    <a:ext cx="47959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2"/>
          <p:cNvGraphicFramePr/>
          <p:nvPr/>
        </p:nvGraphicFramePr>
        <p:xfrm>
          <a:off x="152280" y="3809880"/>
          <a:ext cx="3819600" cy="8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809880"/>
                    <a:ext cx="3819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3"/>
          <p:cNvGraphicFramePr/>
          <p:nvPr/>
        </p:nvGraphicFramePr>
        <p:xfrm>
          <a:off x="3962520" y="3886200"/>
          <a:ext cx="403200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3886200"/>
                    <a:ext cx="40320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4"/>
          <p:cNvGraphicFramePr/>
          <p:nvPr/>
        </p:nvGraphicFramePr>
        <p:xfrm>
          <a:off x="254160" y="5257800"/>
          <a:ext cx="4116240" cy="84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160" y="5257800"/>
                    <a:ext cx="41162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5"/>
          <p:cNvGraphicFramePr/>
          <p:nvPr/>
        </p:nvGraphicFramePr>
        <p:xfrm>
          <a:off x="4267080" y="5334120"/>
          <a:ext cx="4372200" cy="80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5334120"/>
                    <a:ext cx="4372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Oval 16"/>
          <p:cNvSpPr/>
          <p:nvPr/>
        </p:nvSpPr>
        <p:spPr>
          <a:xfrm>
            <a:off x="7696080" y="5181480"/>
            <a:ext cx="1067040" cy="10670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7086600" y="3733920"/>
            <a:ext cx="1066680" cy="10666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7696080" y="2057400"/>
            <a:ext cx="1295640" cy="10666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7238880" y="152280"/>
            <a:ext cx="1295640" cy="10670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228600" y="228600"/>
          <a:ext cx="602928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0292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6324480" y="228600"/>
          <a:ext cx="233532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28600"/>
                    <a:ext cx="2335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"/>
          <p:cNvGraphicFramePr/>
          <p:nvPr/>
        </p:nvGraphicFramePr>
        <p:xfrm>
          <a:off x="228600" y="1295280"/>
          <a:ext cx="48402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295280"/>
                    <a:ext cx="4840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5168880" y="1359000"/>
          <a:ext cx="297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8880" y="1359000"/>
                    <a:ext cx="297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228600" y="2819520"/>
          <a:ext cx="517860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819520"/>
                    <a:ext cx="5178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486400" y="2819520"/>
          <a:ext cx="254808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819520"/>
                    <a:ext cx="254808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228600" y="4038480"/>
          <a:ext cx="4795920" cy="80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038480"/>
                    <a:ext cx="47959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9"/>
          <p:cNvGraphicFramePr/>
          <p:nvPr/>
        </p:nvGraphicFramePr>
        <p:xfrm>
          <a:off x="5257800" y="4114800"/>
          <a:ext cx="2079720" cy="552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4114800"/>
                    <a:ext cx="2079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694880" y="300348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azone BT"/>
              </a:rPr>
              <a:t>to Algebra Coun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animated_welcome4"/>
          <p:cNvPicPr/>
          <p:nvPr/>
        </p:nvPicPr>
        <p:blipFill>
          <a:blip r:embed="rId1"/>
          <a:stretch/>
        </p:blipFill>
        <p:spPr>
          <a:xfrm>
            <a:off x="2590920" y="914400"/>
            <a:ext cx="3181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happ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0"/>
          <p:cNvGraphicFramePr/>
          <p:nvPr/>
        </p:nvGraphicFramePr>
        <p:xfrm>
          <a:off x="380880" y="228600"/>
          <a:ext cx="84582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Freeform 32"/>
          <p:cNvSpPr/>
          <p:nvPr/>
        </p:nvSpPr>
        <p:spPr>
          <a:xfrm flipV="1">
            <a:off x="3354480" y="4822200"/>
            <a:ext cx="58680" cy="44280"/>
          </a:xfrm>
          <a:custGeom>
            <a:avLst/>
            <a:gdLst>
              <a:gd name="textAreaLeft" fmla="*/ 0 w 58680"/>
              <a:gd name="textAreaRight" fmla="*/ 59040 w 58680"/>
              <a:gd name="textAreaTop" fmla="*/ -360 h 44280"/>
              <a:gd name="textAreaBottom" fmla="*/ 44280 h 44280"/>
            </a:gdLst>
            <a:ahLst/>
            <a:rect l="textAreaLeft" t="textAreaTop" r="textAreaRight" b="textAreaBottom"/>
            <a:pathLst>
              <a:path w="184" h="140">
                <a:moveTo>
                  <a:pt x="184" y="0"/>
                </a:moveTo>
                <a:lnTo>
                  <a:pt x="162" y="92"/>
                </a:lnTo>
                <a:lnTo>
                  <a:pt x="0" y="140"/>
                </a:lnTo>
                <a:lnTo>
                  <a:pt x="18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54"/>
          <p:cNvSpPr/>
          <p:nvPr/>
        </p:nvSpPr>
        <p:spPr>
          <a:xfrm>
            <a:off x="380880" y="228600"/>
            <a:ext cx="2057400" cy="2209680"/>
          </a:xfrm>
          <a:prstGeom prst="ellips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5"/>
          <p:cNvSpPr/>
          <p:nvPr/>
        </p:nvSpPr>
        <p:spPr>
          <a:xfrm>
            <a:off x="4038480" y="152280"/>
            <a:ext cx="2667240" cy="2210040"/>
          </a:xfrm>
          <a:prstGeom prst="ellips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"/>
          <p:cNvGraphicFramePr/>
          <p:nvPr/>
        </p:nvGraphicFramePr>
        <p:xfrm>
          <a:off x="1981080" y="2590920"/>
          <a:ext cx="2900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90920"/>
                    <a:ext cx="2900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2"/>
          <p:cNvGraphicFramePr/>
          <p:nvPr/>
        </p:nvGraphicFramePr>
        <p:xfrm>
          <a:off x="4800600" y="2666880"/>
          <a:ext cx="2054160" cy="13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666880"/>
                    <a:ext cx="2054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8"/>
          <p:cNvSpPr/>
          <p:nvPr/>
        </p:nvSpPr>
        <p:spPr>
          <a:xfrm>
            <a:off x="2438280" y="380880"/>
            <a:ext cx="1524240" cy="205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6858000" y="228600"/>
            <a:ext cx="1981080" cy="205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15520" y="279360"/>
            <a:ext cx="79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cc"/>
                </a:solidFill>
                <a:uFillTx/>
                <a:latin typeface="Times New Roman"/>
              </a:rPr>
              <a:t>Different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 types of variabl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un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41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8x</a:t>
            </a:r>
            <a:r>
              <a:rPr b="0" i="1" lang="en-US" sz="9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743200" y="23623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un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4"/>
          <p:cNvGrpSpPr/>
          <p:nvPr/>
        </p:nvGrpSpPr>
        <p:grpSpPr>
          <a:xfrm>
            <a:off x="286920" y="2362320"/>
            <a:ext cx="8579520" cy="4192200"/>
            <a:chOff x="286920" y="2362320"/>
            <a:chExt cx="8579520" cy="4192200"/>
          </a:xfrm>
        </p:grpSpPr>
        <p:sp>
          <p:nvSpPr>
            <p:cNvPr id="59" name="Rectangle 9"/>
            <p:cNvSpPr/>
            <p:nvPr/>
          </p:nvSpPr>
          <p:spPr>
            <a:xfrm>
              <a:off x="1905120" y="2438280"/>
              <a:ext cx="685800" cy="106704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400800" y="2362320"/>
              <a:ext cx="1143000" cy="106668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286920" y="4267080"/>
              <a:ext cx="8579520" cy="2287440"/>
            </a:xfrm>
            <a:prstGeom prst="rect">
              <a:avLst/>
            </a:prstGeom>
            <a:noFill/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To be like terms, the variable part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is what has to be the same,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not the numbers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 flipH="1" flipV="1">
              <a:off x="2286000" y="3657240"/>
              <a:ext cx="76320" cy="6094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3"/>
            <p:cNvSpPr/>
            <p:nvPr/>
          </p:nvSpPr>
          <p:spPr>
            <a:xfrm flipV="1">
              <a:off x="6934320" y="3657240"/>
              <a:ext cx="75960" cy="6094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15520" y="279360"/>
            <a:ext cx="79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cc"/>
                </a:solidFill>
                <a:uFillTx/>
                <a:latin typeface="Times New Roman"/>
              </a:rPr>
              <a:t>Different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 types of variabl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un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536760" y="2133720"/>
            <a:ext cx="8150040" cy="3689640"/>
            <a:chOff x="536760" y="2133720"/>
            <a:chExt cx="8150040" cy="3689640"/>
          </a:xfrm>
        </p:grpSpPr>
        <p:sp>
          <p:nvSpPr>
            <p:cNvPr id="66" name="Rectangle 6"/>
            <p:cNvSpPr/>
            <p:nvPr/>
          </p:nvSpPr>
          <p:spPr>
            <a:xfrm>
              <a:off x="1447920" y="2133720"/>
              <a:ext cx="1143000" cy="152388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086600" y="2209680"/>
              <a:ext cx="1600200" cy="144792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536760" y="4267080"/>
              <a:ext cx="8073360" cy="155628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The variable part is what h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to be the same, not the numbers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9"/>
            <p:cNvSpPr/>
            <p:nvPr/>
          </p:nvSpPr>
          <p:spPr>
            <a:xfrm flipH="1" flipV="1">
              <a:off x="2286000" y="3657240"/>
              <a:ext cx="76320" cy="6094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 flipV="1">
              <a:off x="7543800" y="3657240"/>
              <a:ext cx="76320" cy="6094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45720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2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24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- x</a:t>
            </a:r>
            <a:r>
              <a:rPr b="0" i="1" lang="en-US" sz="9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895480" y="2438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un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47712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5600" y="279360"/>
            <a:ext cx="825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se are like terms even th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y contain both an </a:t>
            </a:r>
            <a:r>
              <a:rPr b="0" i="1" lang="en-US" sz="4800" spc="-1" strike="noStrike">
                <a:solidFill>
                  <a:srgbClr val="0066cc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 and a </a:t>
            </a:r>
            <a:r>
              <a:rPr b="0" i="1" lang="en-US" sz="4800" spc="-1" strike="noStrike">
                <a:solidFill>
                  <a:srgbClr val="0066cc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3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7913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-9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124080" y="23623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600200" y="2057400"/>
            <a:ext cx="1143000" cy="15238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7086600" y="2209680"/>
            <a:ext cx="1295280" cy="14479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79080" y="279360"/>
            <a:ext cx="639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se are also 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09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41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y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95480" y="23623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41008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87880" y="3886200"/>
            <a:ext cx="556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We write variabl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alphabetical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95720" y="279360"/>
            <a:ext cx="7968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Even if we put numbers in fro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(coefficients) of each variab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y are still 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09480" y="24382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943600" y="24382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y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895480" y="27432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3520" y="2819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Poster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638680" y="28954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Poster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212200" y="228600"/>
            <a:ext cx="45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Suppose we hav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1066680" y="990720"/>
          <a:ext cx="735012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73501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0"/>
          <p:cNvGraphicFramePr/>
          <p:nvPr/>
        </p:nvGraphicFramePr>
        <p:xfrm>
          <a:off x="2286000" y="2286000"/>
          <a:ext cx="1878120" cy="14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18781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1"/>
          <p:cNvGraphicFramePr/>
          <p:nvPr/>
        </p:nvGraphicFramePr>
        <p:xfrm>
          <a:off x="4038480" y="2362320"/>
          <a:ext cx="265752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362320"/>
                    <a:ext cx="26575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32"/>
          <p:cNvSpPr/>
          <p:nvPr/>
        </p:nvSpPr>
        <p:spPr>
          <a:xfrm>
            <a:off x="305280" y="3505320"/>
            <a:ext cx="409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It could also b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3"/>
          <p:cNvGraphicFramePr/>
          <p:nvPr/>
        </p:nvGraphicFramePr>
        <p:xfrm>
          <a:off x="4724280" y="4572000"/>
          <a:ext cx="1224000" cy="113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4572000"/>
                    <a:ext cx="12240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Line 34"/>
          <p:cNvSpPr/>
          <p:nvPr/>
        </p:nvSpPr>
        <p:spPr>
          <a:xfrm flipH="1">
            <a:off x="4191120" y="3581280"/>
            <a:ext cx="1371600" cy="990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35"/>
          <p:cNvGraphicFramePr/>
          <p:nvPr/>
        </p:nvGraphicFramePr>
        <p:xfrm>
          <a:off x="2362320" y="4572000"/>
          <a:ext cx="265752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572000"/>
                    <a:ext cx="26575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6"/>
          <p:cNvGraphicFramePr/>
          <p:nvPr/>
        </p:nvGraphicFramePr>
        <p:xfrm>
          <a:off x="5638680" y="4572000"/>
          <a:ext cx="1878120" cy="1441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4572000"/>
                    <a:ext cx="18781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37"/>
          <p:cNvSpPr/>
          <p:nvPr/>
        </p:nvSpPr>
        <p:spPr>
          <a:xfrm>
            <a:off x="3733920" y="3505320"/>
            <a:ext cx="2743200" cy="12952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81960" y="5791320"/>
            <a:ext cx="842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is is the commutative proper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3"/>
          <p:cNvGraphicFramePr/>
          <p:nvPr/>
        </p:nvGraphicFramePr>
        <p:xfrm>
          <a:off x="685800" y="990720"/>
          <a:ext cx="768492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8492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Oval 4"/>
          <p:cNvSpPr/>
          <p:nvPr/>
        </p:nvSpPr>
        <p:spPr>
          <a:xfrm>
            <a:off x="609480" y="762120"/>
            <a:ext cx="1828800" cy="182880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343400" y="838080"/>
            <a:ext cx="1828800" cy="182880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2819520" y="2819520"/>
          <a:ext cx="367488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19520"/>
                    <a:ext cx="367488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2819520" y="4724280"/>
          <a:ext cx="17668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724280"/>
                    <a:ext cx="17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1"/>
          <p:cNvGraphicFramePr/>
          <p:nvPr/>
        </p:nvGraphicFramePr>
        <p:xfrm>
          <a:off x="5029200" y="4648320"/>
          <a:ext cx="1879560" cy="12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648320"/>
                    <a:ext cx="1879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2"/>
          <p:cNvGraphicFramePr/>
          <p:nvPr/>
        </p:nvGraphicFramePr>
        <p:xfrm>
          <a:off x="4191120" y="4724280"/>
          <a:ext cx="1225440" cy="106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724280"/>
                    <a:ext cx="1225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13"/>
          <p:cNvSpPr/>
          <p:nvPr/>
        </p:nvSpPr>
        <p:spPr>
          <a:xfrm>
            <a:off x="4114800" y="3962520"/>
            <a:ext cx="1447920" cy="6858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3962160" y="3962520"/>
            <a:ext cx="1523880" cy="8380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068840" y="403848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imes New Roman"/>
              </a:rPr>
              <a:t>O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590920" y="838080"/>
            <a:ext cx="1752480" cy="1752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400800" y="762120"/>
            <a:ext cx="1752480" cy="1752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1067760" y="5791320"/>
            <a:ext cx="71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Commutative property ag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08:44Z</dcterms:created>
  <dc:creator>Pat Pinkston</dc:creator>
  <dc:description/>
  <dc:language>en-US</dc:language>
  <cp:lastModifiedBy>cti</cp:lastModifiedBy>
  <cp:lastPrinted>2001-06-23T21:59:59Z</cp:lastPrinted>
  <dcterms:modified xsi:type="dcterms:W3CDTF">2014-10-25T04:58:29Z</dcterms:modified>
  <cp:revision>31</cp:revision>
  <dc:subject/>
  <dc:title>Combining Like Terms</dc:title>
</cp:coreProperties>
</file>